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9665-E2F0-47D9-B2ED-BF441E06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5960" y="395280"/>
            <a:ext cx="61675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960" y="2304720"/>
            <a:ext cx="616752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960" y="5726880"/>
            <a:ext cx="616752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268-A7BE-4862-9918-47ECCEDD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5960" y="395280"/>
            <a:ext cx="61675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960" y="2304720"/>
            <a:ext cx="300960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6400" y="2304720"/>
            <a:ext cx="300960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960" y="5726880"/>
            <a:ext cx="300960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6400" y="5726880"/>
            <a:ext cx="300960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AB67-6DA7-4980-813E-6E9CCB89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5960" y="395280"/>
            <a:ext cx="61675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960" y="2304720"/>
            <a:ext cx="198576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31440" y="2304720"/>
            <a:ext cx="198576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920" y="2304720"/>
            <a:ext cx="198576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960" y="5726880"/>
            <a:ext cx="198576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31440" y="5726880"/>
            <a:ext cx="198576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920" y="5726880"/>
            <a:ext cx="198576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499-CDF7-44BB-AA04-52DDFCDA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5960" y="395280"/>
            <a:ext cx="61675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960" y="2304720"/>
            <a:ext cx="6167520" cy="65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6B9D-68F2-4C7E-934E-2C54D2B2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5960" y="395280"/>
            <a:ext cx="61675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960" y="2304720"/>
            <a:ext cx="616752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EAF5-AC81-4A95-A683-8AA6AF58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5960" y="395280"/>
            <a:ext cx="61675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960" y="2304720"/>
            <a:ext cx="300960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6400" y="2304720"/>
            <a:ext cx="300960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FB8F-3A71-452B-BE02-A5C9E1FF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960" y="395280"/>
            <a:ext cx="61675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6A8-7781-4F16-80C2-319B6F57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5960" y="395280"/>
            <a:ext cx="61675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1C3-F514-4906-AA1D-CEA1FC7B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5960" y="395280"/>
            <a:ext cx="61675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960" y="2304720"/>
            <a:ext cx="300960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6400" y="2304720"/>
            <a:ext cx="300960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960" y="5726880"/>
            <a:ext cx="300960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6DE-C3D9-4F81-826B-F4E58779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5960" y="395280"/>
            <a:ext cx="61675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960" y="2304720"/>
            <a:ext cx="300960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6400" y="2304720"/>
            <a:ext cx="300960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6400" y="5726880"/>
            <a:ext cx="300960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45E-CBB4-4A7F-8C39-CDF3A67A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5960" y="395280"/>
            <a:ext cx="61675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960" y="2304720"/>
            <a:ext cx="300960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6400" y="2304720"/>
            <a:ext cx="300960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960" y="5726880"/>
            <a:ext cx="6167520" cy="312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796-BC78-4B8C-9AE0-5799D133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5960" y="395280"/>
            <a:ext cx="616752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960" y="2304720"/>
            <a:ext cx="616752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905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35080" indent="-2192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31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174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174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1744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5960" y="9012240"/>
            <a:ext cx="1595520" cy="7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th-TH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6120" y="9012240"/>
            <a:ext cx="2166840" cy="7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7960" y="9012240"/>
            <a:ext cx="1595520" cy="7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4CC7B4-D0C9-4E28-9808-86F719A7676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7920" y="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กระบวนการจัดทำร่างรัฐธรรมนูญตามรัฐธรรมนูญแห่งราชอาณาจักรไทย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ฉบับชั่วครา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พุทธศักราช  ๒๕๔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81000" y="920880"/>
            <a:ext cx="511200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52640" y="992160"/>
            <a:ext cx="511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สภาร่างรัฐธรรมนู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หมายเหตุ  สภาร่างรัฐธรรมนูญต้องจัดทำร่าง รัฐธรรมนูญและพิจารณาให้แล้วเสร็จ  ภายใน  ๑๘๐  วั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นับแต่วันเปิดประชุมสภาฯ  ครั้งแร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5000" y="2000160"/>
            <a:ext cx="5616720" cy="1368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7920" y="2073240"/>
            <a:ext cx="5616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สภาร่างรัฐธรรมนูญแต่งตั้งคณะกรรมาธิการยกร่างรัฐธรรมนูญ  จำนวน  ๓๕ คน  โดยประกอบด้วยผู้ทรงคุณวุฒ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ซึ่งเป็นหรือมิได้เป็นสมาชิกสภาร่างรัฐธรรมนูญ  ดังนี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สภาร่างรัฐธรรมนูญมีมติเลือก  จำนวน  ๒๕  คน  แล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ตามคำแนะนำของประธานคณะมนตรีความมั่นคงแห่งชาติ  จำนวน  ๑๐  ค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หมายเหตุ  นายกรัฐมนตรีและรัฐมนตรีจะดำรงตำแหน่งกรรมาธิการฯในขณะเดียวกัน  มิได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55680" y="3657600"/>
            <a:ext cx="2664000" cy="431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2680" y="452916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5920" y="4562640"/>
            <a:ext cx="96840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1520" y="5545080"/>
            <a:ext cx="97020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0640" y="4213080"/>
            <a:ext cx="0" cy="308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9920" y="4491000"/>
            <a:ext cx="2448000" cy="2879640"/>
          </a:xfrm>
          <a:custGeom>
            <a:avLst/>
            <a:gdLst>
              <a:gd name="textAreaLeft" fmla="*/ 119520 w 2448000"/>
              <a:gd name="textAreaRight" fmla="*/ 2328480 w 2448000"/>
              <a:gd name="textAreaTop" fmla="*/ 119520 h 2879640"/>
              <a:gd name="textAreaBottom" fmla="*/ 2760120 h 2879640"/>
            </a:gdLst>
            <a:ahLst/>
            <a:rect l="textAreaLeft" t="textAreaTop" r="textAreaRight" b="textAreaBottom"/>
            <a:pathLst>
              <a:path w="21600" h="25408">
                <a:moveTo>
                  <a:pt x="3600" y="0"/>
                </a:moveTo>
                <a:arcTo wR="3600" hR="3600" stAng="16200000" swAng="-5400000"/>
                <a:lnTo>
                  <a:pt x="0" y="21808"/>
                </a:lnTo>
                <a:arcTo wR="3600" hR="3600" stAng="10800000" swAng="-5400000"/>
                <a:lnTo>
                  <a:pt x="18000" y="254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13000" y="4562640"/>
            <a:ext cx="24350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คณะมนตรีความมั่นคงแห่งชาต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สภานิติบัญญัติแห่งชาต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คณะรัฐมนตร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๔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ศาลฎีก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๕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ศาลปกครองสูงสุ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๖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คณะกรรมการการเลือกตั้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๗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คณะกรรมการ  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ผู้ว่าการตรวจเงินแผ่นดิ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ผู้ว่าการแผ่นดินของรัฐสภ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๑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คณะกรรมการสิทธิมนุษยชนแห่งชาต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๑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สภาที่ปรึกษาเศรษฐกิจและสังคมแห่งชาต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๑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สถาบันอุดมศึกษ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035000" y="8408880"/>
            <a:ext cx="259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15880" y="7613640"/>
            <a:ext cx="2232360" cy="360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63920" y="4521240"/>
            <a:ext cx="1816200" cy="647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9240" y="4551480"/>
            <a:ext cx="1871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เผยแพร่และจัดให้มีการรับฟั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ความคิดเห็นจากประชาช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63920" y="5548320"/>
            <a:ext cx="187164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87360" y="5670720"/>
            <a:ext cx="262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เผยแพร่ให้ทราบเป็นการทั่วไ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41360" y="8261280"/>
            <a:ext cx="23767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6680" y="826128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คณะกรรมาธิการฯ พิจารณาความเห็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และคำแปรญัตต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41360" y="9124920"/>
            <a:ext cx="23767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46040" y="9124920"/>
            <a:ext cx="234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จัดทำรายงานการแก้ไขเพิ่มเติ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หรือไม่แก้ไขเพิ่มเติมพร้อมทั้งเหตุผ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11720" y="6458040"/>
            <a:ext cx="1906560" cy="3241440"/>
          </a:xfrm>
          <a:custGeom>
            <a:avLst/>
            <a:gdLst>
              <a:gd name="textAreaLeft" fmla="*/ 92880 w 1906560"/>
              <a:gd name="textAreaRight" fmla="*/ 1813680 w 1906560"/>
              <a:gd name="textAreaTop" fmla="*/ 92880 h 3241440"/>
              <a:gd name="textAreaBottom" fmla="*/ 3148560 h 3241440"/>
            </a:gdLst>
            <a:ahLst/>
            <a:rect l="textAreaLeft" t="textAreaTop" r="textAreaRight" b="textAreaBottom"/>
            <a:pathLst>
              <a:path w="21600" h="36720">
                <a:moveTo>
                  <a:pt x="3600" y="0"/>
                </a:moveTo>
                <a:arcTo wR="3600" hR="3600" stAng="16200000" swAng="-5400000"/>
                <a:lnTo>
                  <a:pt x="0" y="33120"/>
                </a:lnTo>
                <a:arcTo wR="3600" hR="3600" stAng="10800000" swAng="-5400000"/>
                <a:lnTo>
                  <a:pt x="18000" y="36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6640" y="6653160"/>
            <a:ext cx="19447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เสนอร่างรัฐธรรมนูญต่อสภาร่างรัฐธรรมนูญเพื่อพิจารณาให้ควา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เห็นชอบหรือไม่เห็นชอบทั้งฉบั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และเฉพาะมาตราที่สมาชิกสภาร่างรัฐธรรมนูญ ยื่นคำขอแปรญัตติหรือที่คณะกรรมาธิการฯ เสนอโดยสมาชิกสภาร่างรัฐธรรมนูญจะแปรญัตติแก้ไขเพิ่มเติมนอกเหนือจา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ที่บัญญัติไว้ในมาตรา ๒๗ มิได้ เว้นแต่คณะกรรมาธิการฯจะเห็นชอ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ด้วยหรือสมาชิกสภาร่างรัฐธรรมนู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</a:rPr>
              <a:t>มีจำนวนไม่น้อยกว่า ๓ ใน ๕ เห็นชอบด้วยกับการแก้ไขเพิ่มเติมนั้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0640" y="4232160"/>
            <a:ext cx="46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00640" y="4213080"/>
            <a:ext cx="0" cy="2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108320"/>
            <a:ext cx="0" cy="33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2480" y="3368520"/>
            <a:ext cx="0" cy="244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57720" y="17845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40080" y="73771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0640" y="6105600"/>
            <a:ext cx="0" cy="2036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2720" y="8120160"/>
            <a:ext cx="17366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912840" y="48816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33720" y="4881600"/>
            <a:ext cx="0" cy="32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525760" y="8116560"/>
            <a:ext cx="142704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076640" y="5816160"/>
            <a:ext cx="0" cy="36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062240" y="5816520"/>
            <a:ext cx="28440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076640" y="8047080"/>
            <a:ext cx="2127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0080" y="554508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แปรญัตต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แก้ไขเพิ่มเติ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4549680"/>
            <a:ext cx="136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สมาชิกสภาร่า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รัฐธรรมนู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316080" y="3584520"/>
            <a:ext cx="2362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720" y="3691080"/>
            <a:ext cx="34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จัดทำร่างรัฐธรรมนูญและเอกสารชี้แจ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39120" y="7613640"/>
            <a:ext cx="246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พิจารณาและเสนอความเห็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0640" y="5124600"/>
            <a:ext cx="0" cy="38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453360" y="8834400"/>
            <a:ext cx="404640" cy="469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491160" y="8748720"/>
            <a:ext cx="4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237360" y="9069120"/>
            <a:ext cx="234720" cy="6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54440" y="9431280"/>
            <a:ext cx="341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21000" y="8001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21000" y="8864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20640" y="77616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ffcc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440" y="847800"/>
            <a:ext cx="2474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rial"/>
              </a:rPr>
              <a:t>ประกาศในราชกิจจานุเบกษ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rial"/>
              </a:rPr>
              <a:t>และใช้บังคั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0640" y="1857240"/>
            <a:ext cx="1800360" cy="649440"/>
          </a:xfrm>
          <a:prstGeom prst="roundRect">
            <a:avLst>
              <a:gd name="adj" fmla="val 16667"/>
            </a:avLst>
          </a:prstGeom>
          <a:solidFill>
            <a:srgbClr val="ffcc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0640" y="286560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ffcc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1000" y="3968640"/>
            <a:ext cx="939960" cy="505080"/>
          </a:xfrm>
          <a:prstGeom prst="roundRect">
            <a:avLst>
              <a:gd name="adj" fmla="val 16667"/>
            </a:avLst>
          </a:prstGeom>
          <a:solidFill>
            <a:srgbClr val="ffcc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6760" y="1857240"/>
            <a:ext cx="20732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พระมหากษัตริย์ทรงล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พระปรมาภิไธ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3800" y="2936880"/>
            <a:ext cx="2137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ประธานสภานิติบัญญัต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แห่งชาตินำขึ้นทูลเกล้า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25360" y="4041720"/>
            <a:ext cx="6573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เห็นชอ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6280" y="4884840"/>
            <a:ext cx="2089080" cy="788760"/>
          </a:xfrm>
          <a:prstGeom prst="roundRect">
            <a:avLst>
              <a:gd name="adj" fmla="val 16667"/>
            </a:avLst>
          </a:prstGeom>
          <a:solidFill>
            <a:srgbClr val="ccff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49680" y="5961240"/>
            <a:ext cx="2232000" cy="2232000"/>
          </a:xfrm>
          <a:prstGeom prst="roundRect">
            <a:avLst>
              <a:gd name="adj" fmla="val 16667"/>
            </a:avLst>
          </a:prstGeom>
          <a:solidFill>
            <a:srgbClr val="ccff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7920" y="8648640"/>
            <a:ext cx="2737080" cy="714600"/>
          </a:xfrm>
          <a:prstGeom prst="roundRect">
            <a:avLst>
              <a:gd name="adj" fmla="val 16667"/>
            </a:avLst>
          </a:prstGeom>
          <a:solidFill>
            <a:srgbClr val="ffcc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4640" y="6105600"/>
            <a:ext cx="2519640" cy="1079280"/>
          </a:xfrm>
          <a:prstGeom prst="roundRect">
            <a:avLst>
              <a:gd name="adj" fmla="val 16667"/>
            </a:avLst>
          </a:prstGeom>
          <a:solidFill>
            <a:srgbClr val="ccff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81000" y="7543800"/>
            <a:ext cx="941400" cy="504720"/>
          </a:xfrm>
          <a:prstGeom prst="roundRect">
            <a:avLst>
              <a:gd name="adj" fmla="val 16667"/>
            </a:avLst>
          </a:prstGeom>
          <a:solidFill>
            <a:srgbClr val="ffcc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640" y="5024520"/>
            <a:ext cx="2791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ประชาชนผู้มีสิทธิเลือกตั้งโดยเสีย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ข้างมากของผู้มาออกเสียงประชามต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4640" y="6176880"/>
            <a:ext cx="26640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เผยแพร่ให้ประชาชนทราบและจัดให้มีกา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ออกเสียงประชามติ ซึ่งต้องตัดทำไม่เร็วกว่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๑๕ วัน และไม่ช้ากว่า ๓๐ วันนับแต่วันที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เผยแพร่ดังกล่า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14120" y="7616880"/>
            <a:ext cx="880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เห็นชอ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81000" y="8720280"/>
            <a:ext cx="2665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ไม่เห็นชอบ หรือจัดทำร่างรัฐธรรมนู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และพิจารณาไม่แล้วเสร็จ ภายใน ๑๘๐ วั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6280" y="7832880"/>
            <a:ext cx="453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0200" y="9009000"/>
            <a:ext cx="439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935000" y="7780320"/>
            <a:ext cx="1657440" cy="38160"/>
          </a:xfrm>
          <a:prstGeom prst="line">
            <a:avLst/>
          </a:prstGeom>
          <a:ln cap="rnd" w="38160">
            <a:solidFill>
              <a:srgbClr val="ff0066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484280" y="1528920"/>
            <a:ext cx="0" cy="328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484280" y="2536560"/>
            <a:ext cx="0" cy="328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484280" y="45111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484280" y="5706720"/>
            <a:ext cx="0" cy="3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484280" y="72295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92600" y="6105600"/>
            <a:ext cx="2163600" cy="39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คณะกรรมาธิการฯ ดำเนินการยกร่า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พ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ร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บ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ประกอบรัฐธรรมนูญเฉพาะที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จำเป็นเพื่อการเลือกตั้งให้แล้วเสร็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ภายใน ๔๕ วันนับแต่วันที่จัดทำร่า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รัฐธรรมนูญแล้วเสร็จ เพื่อเสนอต่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สภานิติบัญญัติแห่งชาติดำเนินการต่อไ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ซึ่งสภานิติบัญญัติแห่งชาติต้องพิจารณ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ให้แล้วเสร็จ ภายใน ๔๕ วันนับแต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วันที่ได้รับร่างจากคณะกรรมาธิการ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484280" y="4737240"/>
            <a:ext cx="2736720" cy="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45000" y="1706400"/>
            <a:ext cx="2232000" cy="2384640"/>
          </a:xfrm>
          <a:custGeom>
            <a:avLst/>
            <a:gdLst>
              <a:gd name="textAreaLeft" fmla="*/ 108720 w 2232000"/>
              <a:gd name="textAreaRight" fmla="*/ 2123280 w 2232000"/>
              <a:gd name="textAreaTop" fmla="*/ 108720 h 2384640"/>
              <a:gd name="textAreaBottom" fmla="*/ 2275920 h 2384640"/>
            </a:gdLst>
            <a:ahLst/>
            <a:rect l="textAreaLeft" t="textAreaTop" r="textAreaRight" b="textAreaBottom"/>
            <a:pathLst>
              <a:path w="21600" h="23077">
                <a:moveTo>
                  <a:pt x="3600" y="0"/>
                </a:moveTo>
                <a:arcTo wR="3600" hR="3600" stAng="16200000" swAng="-5400000"/>
                <a:lnTo>
                  <a:pt x="0" y="19477"/>
                </a:lnTo>
                <a:arcTo wR="3600" hR="3600" stAng="10800000" swAng="-5400000"/>
                <a:lnTo>
                  <a:pt x="18000" y="23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45000" y="920880"/>
            <a:ext cx="2090520" cy="492120"/>
          </a:xfrm>
          <a:prstGeom prst="roundRect">
            <a:avLst>
              <a:gd name="adj" fmla="val 16667"/>
            </a:avLst>
          </a:prstGeom>
          <a:solidFill>
            <a:srgbClr val="ffcc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92640" y="4481640"/>
            <a:ext cx="1003320" cy="504720"/>
          </a:xfrm>
          <a:prstGeom prst="roundRect">
            <a:avLst>
              <a:gd name="adj" fmla="val 16667"/>
            </a:avLst>
          </a:prstGeom>
          <a:solidFill>
            <a:srgbClr val="ffccff">
              <a:alpha val="9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51600" y="4552920"/>
            <a:ext cx="1081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ไม่เห็นชอ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797360" y="4137120"/>
            <a:ext cx="0" cy="317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03080" y="992160"/>
            <a:ext cx="2547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</a:rPr>
              <a:t>นายกรัฐมนตรีนำขึ้นทูลกล้า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16280" y="1924200"/>
            <a:ext cx="2160720" cy="39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คณะมนตรีความมั่นคงแห่งชาติประชุ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ร่วมกับคณะรัฐมนตรีเพื่อพิจารณ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รัฐธรรมนูญฯ ที่ได้เคยประกาศใช้บังคั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มาแล้วฉบับใดฉบับหนึ่งมาปรับปรุงให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แล้วเสร็จภายใน ๓๐ วัน นับแต่วันที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สภาร่างรัฐธรรมนูญจัดทำร่างรัฐธรรมนู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ไม่แล้วเสร็จภายใน ๑๘๐ วัน หรือนับแต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วันที่สภาร่างรัฐธรรมนูญไม่ให้ความเห็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</a:rPr>
              <a:t>ชอบหรือนับแต่วันออกเสียงประชามต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9" idx="1"/>
            <a:endCxn id="93" idx="3"/>
          </p:cNvCxnSpPr>
          <p:nvPr/>
        </p:nvCxnSpPr>
        <p:spPr>
          <a:xfrm flipV="1" rot="10800000">
            <a:off x="2445480" y="1166400"/>
            <a:ext cx="1173960" cy="1016640"/>
          </a:xfrm>
          <a:prstGeom prst="bentConnector3">
            <a:avLst>
              <a:gd name="adj1" fmla="val 49907"/>
            </a:avLst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 flipV="1">
            <a:off x="4724280" y="142380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V="1">
            <a:off x="3645000" y="4717800"/>
            <a:ext cx="1675440" cy="4286880"/>
          </a:xfrm>
          <a:prstGeom prst="bentConnector3">
            <a:avLst>
              <a:gd name="adj1" fmla="val 15306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8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0" y="8221680"/>
            <a:ext cx="382680" cy="431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7120" y="8418600"/>
            <a:ext cx="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-199440" y="810576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486080" y="3609720"/>
            <a:ext cx="0" cy="328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47840" y="7813800"/>
            <a:ext cx="18720" cy="12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2:24:45Z</dcterms:created>
  <dc:creator>iLLuSioN</dc:creator>
  <dc:description/>
  <dc:language>en-US</dc:language>
  <cp:lastModifiedBy>jeab</cp:lastModifiedBy>
  <dcterms:modified xsi:type="dcterms:W3CDTF">2007-01-16T01:59:28Z</dcterms:modified>
  <cp:revision>30</cp:revision>
  <dc:subject/>
  <dc:title>ภาพนิ่ง 1</dc:title>
</cp:coreProperties>
</file>