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E43-A45B-47A9-921D-17CCB5BD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960" y="572688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20A-CB2D-4CC7-8083-9F5C79DD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40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853-5ABA-499C-96AD-3DD3D3A5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144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96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144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980-AFFD-4A33-9232-38BBCC49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A59-6CD9-4685-B596-D1150D7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7B5-A403-4A84-8AEB-011E2E0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A87-BB9D-40DA-8ED8-CAD6CA8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02A-287F-4E4C-B523-12520F1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395280"/>
            <a:ext cx="61675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130-754D-4FBA-8C96-99F6087B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B87-44DB-4E79-967B-0956F8E2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40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5D4-DE03-4BB2-9FFD-D5435DA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4D2-BBBB-4DD1-B5D7-96D7A30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90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1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960" y="9012240"/>
            <a:ext cx="159552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th-TH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6120" y="9012240"/>
            <a:ext cx="216684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7960" y="9012240"/>
            <a:ext cx="159552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6114F-B7BF-43EC-9036-022B11BA86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7920" y="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กระบวนการจัดทำร่างรัฐธรรมนูญตามรัฐธรรมนูญแห่งราชอาณาจักรไทย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ฉบับชั่วครา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พุทธศักราช  ๒๕๔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1000" y="920880"/>
            <a:ext cx="51120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52640" y="992160"/>
            <a:ext cx="51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หมายเหตุ  สภาร่างรัฐธรรมนูญต้องจัดทำร่าง รัฐธรรมนูญและพิจารณาให้แล้วเสร็จ  ภายใน  ๑๘๐  วั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นับแต่วันเปิดประชุมสภาฯ  ครั้งแร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2000160"/>
            <a:ext cx="5616720" cy="1368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2073240"/>
            <a:ext cx="561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แต่งตั้งคณะกรรมาธิการยกร่างรัฐธรรมนูญ  จำนวน  ๓๕ คน  โดยประกอบด้วยผู้ทรงคุณวุฒ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ซึ่งเป็นหรือมิได้เป็นสมาชิกสภาร่างรัฐธรรมนูญ 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มีมติเลือก  จำนวน  ๒๕  คน  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ตามคำแนะนำของประธานคณะมนตรีความมั่นคงแห่งชาติ  จำนวน  ๑๐  ค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หมายเหตุ  นายกรัฐมนตรีและรัฐมนตรีจะดำรงตำแหน่งกรรมาธิการฯในขณะเดียวกัน  มิได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55680" y="3657600"/>
            <a:ext cx="266400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2680" y="452916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920" y="4562640"/>
            <a:ext cx="96840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520" y="5545080"/>
            <a:ext cx="97020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640" y="4213080"/>
            <a:ext cx="0" cy="30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9920" y="4491000"/>
            <a:ext cx="2448000" cy="287964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879640"/>
              <a:gd name="textAreaBottom" fmla="*/ 2760120 h 287964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13000" y="4562640"/>
            <a:ext cx="2435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มนตรีความมั่นคง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นิติบัญญัติ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รัฐมนตร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ศาลฎีก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ศาลปกครองสูงสุ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การเลือกตั้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  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ผู้ว่าการตรวจเงินแผ่นด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ผู้ว่าการแผ่นดินของรัฐสภ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สิทธิมนุษยชน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ที่ปรึกษาเศรษฐกิจและสังคม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ถาบันอุดมศ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035000" y="840888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5880" y="7613640"/>
            <a:ext cx="223236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63920" y="4521240"/>
            <a:ext cx="181620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9240" y="455148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ผยแพร่และจัดให้มีการรับฟั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ความคิดเห็นจากประชาช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63920" y="55483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87360" y="567072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ผยแพร่ให้ทราบเป็นการทั่ว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41360" y="826128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6680" y="8261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คณะกรรมาธิการฯ พิจารณาความเห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ละคำแปรญัต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41360" y="912492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46040" y="9124920"/>
            <a:ext cx="23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จัดทำรายงานการแก้ไขเพิ่มเติ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หรือไม่แก้ไขเพิ่มเติมพร้อมทั้งเหตุผ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1720" y="6458040"/>
            <a:ext cx="1906560" cy="3241440"/>
          </a:xfrm>
          <a:custGeom>
            <a:avLst/>
            <a:gdLst>
              <a:gd name="textAreaLeft" fmla="*/ 92880 w 1906560"/>
              <a:gd name="textAreaRight" fmla="*/ 1813680 w 1906560"/>
              <a:gd name="textAreaTop" fmla="*/ 92880 h 3241440"/>
              <a:gd name="textAreaBottom" fmla="*/ 3148560 h 3241440"/>
            </a:gdLst>
            <a:ahLst/>
            <a:rect l="textAreaLeft" t="textAreaTop" r="textAreaRight" b="textAreaBottom"/>
            <a:pathLst>
              <a:path w="21600" h="36720">
                <a:moveTo>
                  <a:pt x="3600" y="0"/>
                </a:moveTo>
                <a:arcTo wR="3600" hR="3600" stAng="16200000" swAng="-5400000"/>
                <a:lnTo>
                  <a:pt x="0" y="33120"/>
                </a:lnTo>
                <a:arcTo wR="3600" hR="3600" stAng="10800000" swAng="-5400000"/>
                <a:lnTo>
                  <a:pt x="18000" y="36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6640" y="6653160"/>
            <a:ext cx="1944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สนอร่างรัฐธรรมนูญต่อสภาร่างรัฐธรรมนูญเพื่อพิจารณาให้คว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ห็นชอบหรือไม่เห็นชอบทั้งฉบ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ละเฉพาะมาตราที่สมาชิกสภาร่างรัฐธรรมนูญ ยื่นคำขอแปรญัตติหรือที่คณะกรรมาธิการฯ เสนอโดยสมาชิกสภาร่างรัฐธรรมนูญจะแปรญัตติแก้ไขเพิ่มเติมนอกเหนือจา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ที่บัญญัติไว้ในมาตรา ๒๗ มิได้ เว้นแต่คณะกรรมาธิการฯจะเห็นชอ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ด้วยหรือสมาชิกสภา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มีจำนวนไม่น้อยกว่า ๓ ใน ๕ เห็นชอบด้วยกับการแก้ไขเพิ่มเติมนั้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0640" y="423216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0640" y="421308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108320"/>
            <a:ext cx="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2480" y="3368520"/>
            <a:ext cx="0" cy="24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7720" y="17845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73771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0640" y="6105600"/>
            <a:ext cx="0" cy="203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2720" y="8120160"/>
            <a:ext cx="1736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12840" y="48816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33720" y="48816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25760" y="8116560"/>
            <a:ext cx="1427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76640" y="581616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062240" y="5816520"/>
            <a:ext cx="28440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76640" y="8047080"/>
            <a:ext cx="212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080" y="55450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ปรญัต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ก้ไขเพิ่มเติ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454968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สมาชิกสภาร่า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รัฐธรรมนู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16080" y="35845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3691080"/>
            <a:ext cx="34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จัดทำร่างรัฐธรรมนูญและเอกสารชี้แจ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9120" y="761364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ิจารณาและเสนอความเห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0640" y="5124600"/>
            <a:ext cx="0" cy="38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453360" y="8834400"/>
            <a:ext cx="40464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91160" y="8748720"/>
            <a:ext cx="4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37360" y="9069120"/>
            <a:ext cx="234720" cy="6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9431280"/>
            <a:ext cx="34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1000" y="800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1000" y="886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20640" y="7761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440" y="847800"/>
            <a:ext cx="2474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ประกาศในราชกิจจานุเบกษ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และใช้บังค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1857240"/>
            <a:ext cx="1800360" cy="64944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640" y="28656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1000" y="3968640"/>
            <a:ext cx="939960" cy="50508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6760" y="1857240"/>
            <a:ext cx="2073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ระมหากษัตริย์ทรงล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ระปรมาภิไธ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3800" y="2936880"/>
            <a:ext cx="2137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ประธานสภานิติบัญญ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ห่งชาตินำขึ้นทูลเกล้า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25360" y="4041720"/>
            <a:ext cx="657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280" y="4884840"/>
            <a:ext cx="2089080" cy="78876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49680" y="5961240"/>
            <a:ext cx="2232000" cy="223200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920" y="8648640"/>
            <a:ext cx="2737080" cy="71460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640" y="6105600"/>
            <a:ext cx="2519640" cy="107928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1000" y="7543800"/>
            <a:ext cx="941400" cy="504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640" y="5024520"/>
            <a:ext cx="2791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ประชาชนผู้มีสิทธิเลือกตั้งโดยเสีย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ข้างมากของผู้มาออกเสียงประชาม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4640" y="6176880"/>
            <a:ext cx="2664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ผยแพร่ให้ประชาชนทราบและจัดให้มี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ออกเสียงประชามติ ซึ่งต้องตัดทำไม่เร็วกว่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๑๕ วัน และไม่ช้ากว่า ๓๐ วันนับแต่วัน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ผยแพร่ดังกล่า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4120" y="7616880"/>
            <a:ext cx="88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1000" y="8720280"/>
            <a:ext cx="2665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ไม่เห็นชอบ หรือจัดทำร่างรัฐธรรมนู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ละพิจารณาไม่แล้วเสร็จ ภายใน ๑๘๐ วั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280" y="7832880"/>
            <a:ext cx="45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0200" y="9009000"/>
            <a:ext cx="43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35000" y="7780320"/>
            <a:ext cx="1657440" cy="3816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84280" y="1528920"/>
            <a:ext cx="0" cy="328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84280" y="2536560"/>
            <a:ext cx="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84280" y="45111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84280" y="5706720"/>
            <a:ext cx="0" cy="3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84280" y="72295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2600" y="6105600"/>
            <a:ext cx="216360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คณะกรรมาธิการฯ ดำเนินการยกร่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ประกอบรัฐธรรมนูญเฉพาะ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จำเป็นเพื่อการเลือกตั้งให้แล้วเสร็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ภายใน ๔๕ วันนับแต่วันที่จัดทำร่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ัฐธรรมนูญแล้วเสร็จ เพื่อเสนอต่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นิติบัญญัติแห่งชาติดำเนินการต่อไ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ซึ่งสภานิติบัญญัติแห่งชาติต้องพิจารณ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ให้แล้วเสร็จ ภายใน ๔๕ วันนับแต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วันที่ได้รับร่างจากคณะกรรมาธิการ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84280" y="4737240"/>
            <a:ext cx="27367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45000" y="1706400"/>
            <a:ext cx="2232000" cy="238464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384640"/>
              <a:gd name="textAreaBottom" fmla="*/ 2275920 h 2384640"/>
            </a:gdLst>
            <a:ahLst/>
            <a:rect l="textAreaLeft" t="textAreaTop" r="textAreaRight" b="textAreaBottom"/>
            <a:pathLst>
              <a:path w="21600" h="23077">
                <a:moveTo>
                  <a:pt x="3600" y="0"/>
                </a:moveTo>
                <a:arcTo wR="3600" hR="3600" stAng="16200000" swAng="-5400000"/>
                <a:lnTo>
                  <a:pt x="0" y="19477"/>
                </a:lnTo>
                <a:arcTo wR="3600" hR="3600" stAng="10800000" swAng="-5400000"/>
                <a:lnTo>
                  <a:pt x="18000" y="23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45000" y="920880"/>
            <a:ext cx="2090520" cy="4921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92640" y="4481640"/>
            <a:ext cx="1003320" cy="504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51600" y="45529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ไม่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97360" y="413712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3080" y="992160"/>
            <a:ext cx="2547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นายกรัฐมนตรีนำขึ้นทูลกล้า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16280" y="1924200"/>
            <a:ext cx="216072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คณะมนตรีความมั่นคงแห่งชาติประชุ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่วมกับคณะรัฐมนตรีเพื่อพิจารณ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ัฐธรรมนูญฯ ที่ได้เคยประกาศใช้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มาแล้วฉบับใดฉบับหนึ่งมาปรับปรุงให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แล้วเสร็จภายใน ๓๐ วัน นับแต่วัน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จัดทำ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ไม่แล้วเสร็จภายใน ๑๘๐ วัน หรือนับแต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วันที่สภาร่างรัฐธรรมนูญไม่ให้ความเห็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ชอบหรือนับแต่วันออกเสียงประชาม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9" idx="1"/>
            <a:endCxn id="93" idx="3"/>
          </p:cNvCxnSpPr>
          <p:nvPr/>
        </p:nvCxnSpPr>
        <p:spPr>
          <a:xfrm flipV="1" rot="10800000">
            <a:off x="2445480" y="1166400"/>
            <a:ext cx="1173960" cy="1016640"/>
          </a:xfrm>
          <a:prstGeom prst="bentConnector3">
            <a:avLst>
              <a:gd name="adj1" fmla="val 49907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V="1">
            <a:off x="4724280" y="14238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V="1">
            <a:off x="3645000" y="4717800"/>
            <a:ext cx="1675440" cy="4286880"/>
          </a:xfrm>
          <a:prstGeom prst="bentConnector3">
            <a:avLst>
              <a:gd name="adj1" fmla="val 15306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8221680"/>
            <a:ext cx="382680" cy="43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7120" y="8418600"/>
            <a:ext cx="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-199440" y="810576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86080" y="3609720"/>
            <a:ext cx="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7840" y="7813800"/>
            <a:ext cx="187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2:24:45Z</dcterms:created>
  <dc:creator>iLLuSioN</dc:creator>
  <dc:description/>
  <dc:language>en-US</dc:language>
  <cp:lastModifiedBy>jeab</cp:lastModifiedBy>
  <dcterms:modified xsi:type="dcterms:W3CDTF">2007-01-16T01:59:28Z</dcterms:modified>
  <cp:revision>30</cp:revision>
  <dc:subject/>
  <dc:title>ภาพนิ่ง 1</dc:title>
</cp:coreProperties>
</file>