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BBF-5A2C-46F9-B3C1-166F60A9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8AD-6C11-4AB4-94AE-1B690028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954-0382-47E3-84FF-307CE873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755-CC6A-48C2-AE88-D058C5CC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E337-D809-4C00-B68D-271D2C14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289F-6198-4189-ABD8-EB33075E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9413-1640-4F33-86BF-A76C53A8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D41D-A79B-47EA-9D2F-C21FF4A8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5870-BC00-4087-AACE-AD92A582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20B0-9837-40EF-933E-662A2B38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2E05-CDD3-4A8A-AD6F-34539654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97E-79A2-4C40-8A67-3E4F0575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4E6A-3673-4E66-AF98-C9494A70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909E-7DB9-4A89-B8F9-2E0635CA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BAB3-7C8D-4DD7-8CC8-91D68C43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356B-B9FC-48D7-B8FC-B55146C7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4AE9-32A2-4C5F-A63B-3FCEB2C2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FC6-DF7A-4937-B3FF-74B1F966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8BC-F72C-4147-8ADA-682A0B88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F12-D093-4B8F-BC95-D18DF58F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0A6-71C3-400B-AD11-F3AC41AE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68C-36DF-4612-B14C-E8CACD70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D4B-C696-4A8E-A094-06680BF0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F32-2316-4C92-B711-77E8142B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9208-2CD1-44B6-A488-61B78B7D6095}" type="slidenum">
              <a:rPr b="0" lang="th-T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8DFD-BD80-443A-BA9E-B36427310CE1}" type="slidenum">
              <a:rPr b="0" lang="th-TH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840" y="1213920"/>
            <a:ext cx="8929800" cy="24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7c80"/>
                </a:solidFill>
                <a:latin typeface="Arial Black"/>
              </a:rPr>
              <a:t>สาระสำคัญของ</a:t>
            </a:r>
            <a:br>
              <a:rPr sz="6600"/>
            </a:br>
            <a:r>
              <a:rPr b="1" lang="th-TH" sz="6600" spc="-1" strike="noStrike">
                <a:solidFill>
                  <a:srgbClr val="ff7c80"/>
                </a:solidFill>
                <a:latin typeface="Arial Black"/>
              </a:rPr>
              <a:t>ร่างรัฐธรรมนูญแห่งราชอาณาจักรไทย </a:t>
            </a:r>
            <a:br>
              <a:rPr sz="6600"/>
            </a:br>
            <a:r>
              <a:rPr b="1" lang="th-TH" sz="6600" spc="-1" strike="noStrike">
                <a:solidFill>
                  <a:srgbClr val="ff7c80"/>
                </a:solidFill>
                <a:latin typeface="Arial Black"/>
              </a:rPr>
              <a:t>พุทธศักราช </a:t>
            </a:r>
            <a:r>
              <a:rPr b="1" lang="th-TH" sz="6600" spc="-1" strike="noStrike">
                <a:solidFill>
                  <a:srgbClr val="ff7c80"/>
                </a:solidFill>
                <a:latin typeface="Arial Black"/>
              </a:rPr>
              <a:t>....</a:t>
            </a:r>
            <a:br>
              <a:rPr sz="6600"/>
            </a:br>
            <a:endParaRPr b="1" lang="en-US" sz="6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00040" y="431964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7c80"/>
                </a:solidFill>
                <a:latin typeface="Arial"/>
              </a:rPr>
              <a:t>ฉบับลงประชามต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7c80"/>
                </a:solidFill>
                <a:latin typeface="Arial Black"/>
              </a:rPr>
              <a:t>๒</a:t>
            </a:r>
            <a:r>
              <a:rPr b="0" i="1" lang="th-TH" sz="4400" spc="-1" strike="noStrike">
                <a:solidFill>
                  <a:srgbClr val="ff7c80"/>
                </a:solidFill>
                <a:latin typeface="Arial Black"/>
              </a:rPr>
              <a:t>.</a:t>
            </a:r>
            <a:r>
              <a:rPr b="0" i="1" lang="th-TH" sz="4400" spc="-1" strike="noStrike">
                <a:solidFill>
                  <a:srgbClr val="ff7c80"/>
                </a:solidFill>
                <a:latin typeface="Arial Black"/>
              </a:rPr>
              <a:t>การลดการผูกขาดอำนาจรัฐและขจัดการใช้อำนาจอย่างไม่เป็นธรรม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20955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ccff99"/>
                </a:solidFill>
                <a:latin typeface="Arial"/>
              </a:rPr>
              <a:t>เสริมอำนาจทางการเมืองให้แก่ประชาชน</a:t>
            </a:r>
            <a:r>
              <a:rPr b="1" i="1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ccff99"/>
                </a:solidFill>
                <a:latin typeface="Arial"/>
              </a:rPr>
              <a:t>จำกัดการผูกขาดและการใช้อำนาจที่ไม่เป็นธรรมของรัฐบา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ccff99"/>
                </a:solidFill>
                <a:latin typeface="Arial"/>
              </a:rPr>
              <a:t>ให้ สส</a:t>
            </a:r>
            <a:r>
              <a:rPr b="1" i="1" lang="th-TH" sz="3600" spc="-1" strike="noStrike">
                <a:solidFill>
                  <a:srgbClr val="ccff99"/>
                </a:solidFill>
                <a:latin typeface="Arial"/>
              </a:rPr>
              <a:t>.</a:t>
            </a:r>
            <a:r>
              <a:rPr b="1" i="1" lang="th-TH" sz="3600" spc="-1" strike="noStrike">
                <a:solidFill>
                  <a:srgbClr val="ccff99"/>
                </a:solidFill>
                <a:latin typeface="Arial"/>
              </a:rPr>
              <a:t>และ สว</a:t>
            </a:r>
            <a:r>
              <a:rPr b="1" i="1" lang="th-TH" sz="3600" spc="-1" strike="noStrike">
                <a:solidFill>
                  <a:srgbClr val="ccff99"/>
                </a:solidFill>
                <a:latin typeface="Arial"/>
              </a:rPr>
              <a:t>. </a:t>
            </a:r>
            <a:r>
              <a:rPr b="1" i="1" lang="th-TH" sz="3600" spc="-1" strike="noStrike">
                <a:solidFill>
                  <a:srgbClr val="ccff99"/>
                </a:solidFill>
                <a:latin typeface="Arial"/>
              </a:rPr>
              <a:t>เป็นอิสระจากการครอบงำของพรรคการเมือง เพื่อทำหน้าที่ผู้แทนปวงชนได้เต็มที่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7c80"/>
                </a:solidFill>
                <a:latin typeface="Arial Black"/>
              </a:rPr>
              <a:t>เสริมสร้างอำนาจทางการเมืองให้แก่ประชาชน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ประชาชนและชุมชนมีอำนาจในการฟ้องร้องรัฐที่ใช้อำนาจไม่เป็นธรรมได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ประชาชนใช้สิทธิทางการเมืองได้ง่ายขึ้น เช่น การลดจำนวนประชาชนในการเข้าชื่อถอดถอนนักการเมืองและการเสนอกฎหมายทั้งในระดับประเทศและในระดับท้องถิ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สร้างการมีส่วนร่วมของประชาชนในระดับชาติและระดับท้องถิ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7c80"/>
                </a:solidFill>
                <a:latin typeface="Arial Black"/>
              </a:rPr>
              <a:t>จำกัดการผูกขาดและการใช้อำนาจที่ไม่เป็นธรรมของรัฐบาล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3840" y="1571400"/>
            <a:ext cx="847260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นายกรัฐมนตรีอยู่ได้ไม่เกิน ๘ ป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การตราพระราชกำหนดของรัฐบาลจะต้องถูกตรวจสอบ โดยเคร่งครัดจากศาลรัฐธรรมนูญ มิใช่ตามอำเภอใจของรัฐบาลอีกต่อไ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กำหนดขอบเขตภาระหน้าที่ของรัฐบาลรักษาการอย่างชัดเจน เพื่อมิให้รัฐบาลรักษาการแทรกแซงการทำงานของฝ่ายประจำ และใช้กลไกของรัฐไปสนับสนุนพรรคการเมืองและผู้สมัครฝ่ายตนในการเลือกตั้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คณะรัฐมนตรีจะทำสนธิสัญญาหรือข้อตกลงระหว่างประเทศต้องได้รับความเห็นชอบจากรัฐสภาทั้งก่อน ระหว่าง และหลังการลงนา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7c80"/>
                </a:solidFill>
                <a:latin typeface="Arial Black"/>
              </a:rPr>
              <a:t>จำกัดการผูกขาดและการใช้อำนาจที่ไม่เป็นธรรมของรัฐบาล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สส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๑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/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๕ เปิดอภิปรายนายกรัฐมนตรีได้  และ สส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๑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/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๖ เปิดอภิปรายรัฐมนตรีได้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อภิปรายไม่ไว้วางใจรัฐมนตรีที่หลบการอภิปราย ไปดำรงตำแหน่งรัฐมนตรีอื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ให้องค์กรอัยการเป็นอิสระ เพื่อตรวจสอบการใช้อำนาจรัฐและดำเนินคดีอาญาของผู้ดำรงตำแหน่งทางการเมืองได้เต็มที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600" spc="-1" strike="noStrike">
                <a:solidFill>
                  <a:srgbClr val="ff7c80"/>
                </a:solidFill>
                <a:latin typeface="Arial Black"/>
              </a:rPr>
              <a:t>สส</a:t>
            </a:r>
            <a:r>
              <a:rPr b="0" i="1" lang="th-TH" sz="3600" spc="-1" strike="noStrike">
                <a:solidFill>
                  <a:srgbClr val="ff7c80"/>
                </a:solidFill>
                <a:latin typeface="Arial Black"/>
              </a:rPr>
              <a:t>.</a:t>
            </a:r>
            <a:r>
              <a:rPr b="0" i="1" lang="th-TH" sz="3600" spc="-1" strike="noStrike">
                <a:solidFill>
                  <a:srgbClr val="ff7c80"/>
                </a:solidFill>
                <a:latin typeface="Arial Black"/>
              </a:rPr>
              <a:t>เป็นอิสระจากการครอบงำของพรรคการเมือง เพื่อทำหน้าที่ฐานะผู้แทนปวงชนได้อย่างเต็มที่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ห้ามควบรวมพรรคการเมืองในระหว่างที่อายุของสภายังไม่สิ้นสุ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สส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มีอิสระจากมติพรรคการเมืองในการตั้งกระทู้ถาม การอภิปราย และการลงมติอภิปรายไม่ไว้วางใ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ห้ามสส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และสว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ffff99"/>
                </a:solidFill>
                <a:latin typeface="Arial"/>
              </a:rPr>
              <a:t>แทรกแซงข้าราชการประจ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66ff33"/>
                </a:solidFill>
                <a:latin typeface="Arial Black"/>
              </a:rPr>
              <a:t>๓</a:t>
            </a:r>
            <a:r>
              <a:rPr b="0" i="1" lang="th-TH" sz="4400" spc="-1" strike="noStrike">
                <a:solidFill>
                  <a:srgbClr val="66ff33"/>
                </a:solidFill>
                <a:latin typeface="Arial Black"/>
              </a:rPr>
              <a:t>.</a:t>
            </a:r>
            <a:r>
              <a:rPr b="0" i="1" lang="th-TH" sz="4400" spc="-1" strike="noStrike">
                <a:solidFill>
                  <a:srgbClr val="66ff33"/>
                </a:solidFill>
                <a:latin typeface="Arial Black"/>
              </a:rPr>
              <a:t>การทำให้การเมืองมีความโปร่งใส มีคุณธรรมและจริยธรรม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บัญญัติหมวดคุณธรรมและจริยธรรมของผู้ดำรงตำแหน่งทางการเมืองและเจ้าหน้าที่ของรัฐไว้ชัดเ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กำหนดมาตรการเพื่อไม่ให้มีผลประโยชน์ทับซ้อนทางการเมือง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การแสดงทรัพย์สินและหนี้สินของผู้ดำรงตำแหน่งทางการเมืองมีความเข้มข้นขึ้น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ให้สส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สว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นายกรัฐมนตรีและรัฐมนตรี พ้นจากตำแหน่ง ในกรณีที่ศาลมีคำพิพากษาได้ง่ายขึ้น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000" spc="-1" strike="noStrike">
                <a:solidFill>
                  <a:srgbClr val="66ff33"/>
                </a:solidFill>
                <a:latin typeface="Arial Black"/>
              </a:rPr>
              <a:t>บัญญัติหมวดคุณธรรมและจริยธรรมของผู้ดำรงตำแหน่งทางการเมืองและเจ้าหน้าที่ของรัฐไว้อย่างชัดเจน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มีกลไกและระบบการดำเนินงานที่มีประสิทธิภาพ มีขั้นตอนการลงโทษตามความร้ายแรงแห่งการละเมิ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การฝ่าฝืนมาตรฐานจริยธรรมที่ร้ายแรงของผู้ดำรงตำแหน่งทางการเมืองนำไปสู่การถอดถอนออกจากตำแหน่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ให้ ผู้ตรวจการแผ่นดิน และ ปปช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ทำหน้าที่ตรวจสอบจริยธรรมนักการเมื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66ff33"/>
                </a:solidFill>
                <a:latin typeface="Arial Black"/>
              </a:rPr>
              <a:t>กำหนดมาตรการเพื่อไม่ให้มีผลประโยชน์ทับซ้อน</a:t>
            </a:r>
            <a:br>
              <a:rPr sz="4400"/>
            </a:br>
            <a:r>
              <a:rPr b="0" i="1" lang="th-TH" sz="4400" spc="-1" strike="noStrike">
                <a:solidFill>
                  <a:srgbClr val="66ff33"/>
                </a:solidFill>
                <a:latin typeface="Arial Black"/>
              </a:rPr>
              <a:t>ทางการเมือง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4200" y="1904760"/>
            <a:ext cx="8631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นายกรัฐมนตรีและรัฐมนตรี ต้องไม่เป็นหุ้นส่วนหรือผู้ถือหุ้นในการห้างหุ้นส่วนหรือบริษัท 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(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ครอบคลุมถึงคู่สมรสและบุตรที่ยังไม่บรรลุนิติภาวะ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กำหนดหลักการ การกระทำที่เป็นการขัดกันแห่งผลประโยชน์ของ สส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. 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สว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. 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นายกรัฐมนตรี รัฐมนตร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ห้ามประธานสภา รองประธานสภา ดำเนินการในลักษณะที่มีผลประโยชน์ทับซ้อน ในระหว่างการดำรงตำแหน่งจะเป็นกรรมการบริหารหรือดำรงตำแหน่งใดในพรรคการเมืองมิได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นายกรัฐมนตรีและรัฐมนตรี ห้ามมิให้ออกเสียงลงคะแนนในเรื่องที่เกี่ยวกับการดำรงตำแหน่ง การปฏิบัติหน้าที่ หรือการมีส่วนได้เสียในเรื่องนั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66ff33"/>
                </a:solidFill>
                <a:latin typeface="Arial Black"/>
              </a:rPr>
              <a:t>การแสดงทรัพย์สินและหนี้สินของผู้ดำรงตำแหน่งทางการเมืองมีความเข้มข้นขึ้น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ขยายไปถึงทรัพย์สินที่อยู่ในความครอบครองหรือดูแลของบุคคลอี่น ไม่ว่าทางตรงหรือทางอ้อ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สส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และ สว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. </a:t>
            </a: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ต้องแสดงทรัพย์สินและหนี้สินอย่างเปิดเผยแก่สาธารณชนเ ช่นเดียวกับของรัฐมนตร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600" spc="-1" strike="noStrike">
                <a:solidFill>
                  <a:srgbClr val="66ff33"/>
                </a:solidFill>
                <a:latin typeface="Arial Black"/>
              </a:rPr>
              <a:t>ให้สมาชิกสภาผู้แทนราษฎร สมาชิกวุฒิสภา นายกรัฐมนตรีและรัฐมนตรี พ้นจากตำแหน่งในกรณีที่ศาลมีคำพิพากษาได้ง่ายขึ้น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กรณีสมาชิกสภาพผู้แทนราษฎรและสมาชิกวุฒิสภา เมื่อมีคำพิพากษาถึงที่สุดให้จำคุกแม้จะมีการรอการลงโทษก็พ้นจากตำแหน่ง เว้นแต่ประมาท ลหุโทษ หรือความผิดฐานหมิ่นประมา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ccff99"/>
                </a:solidFill>
                <a:latin typeface="Arial"/>
              </a:rPr>
              <a:t>กรณีนายกรัฐมนตรีและรัฐมนตรี เมื่อต้องคำพิพากษาให้จำคุก แม้คดีจะยังไม่ถึงที่สุดหรือมีการรอการลงโทษก็พ้นจากตำแหน่ง เว้นแต่ประมาท ลหุโทษ หรือความผิดฐานหมิ่นประมาท</a:t>
            </a:r>
            <a:r>
              <a:rPr b="1" i="1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8f8f8"/>
                </a:solidFill>
                <a:latin typeface="Arial Black"/>
              </a:rPr>
              <a:t>สาระสำคัญที่เพิ่มขึ้นของรัฐธรรมนูญ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15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62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๑</a:t>
            </a: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การคุ้มครอง ส่งเสริม และการขยายสิทธิและเสรีภาพของประชาชนอย่างเต็มที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2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๒</a:t>
            </a: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การลดการผูกขาดอำนาจรัฐและขจัดการใช้อำนาจอย่างไม่เป็นธรร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2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๓</a:t>
            </a: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การทำให้การเมืองมีความโปร่งใส มีคุณธรรมและจริยธรร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2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๔</a:t>
            </a: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1" i="1" lang="th-TH" sz="4000" spc="-1" strike="noStrike">
                <a:solidFill>
                  <a:srgbClr val="ffff99"/>
                </a:solidFill>
                <a:latin typeface="Arial"/>
              </a:rPr>
              <a:t>การทำให้ระบบตรวจสอบมีความเข้มแข็งและทำงานได้อย่างมีประสิทธิภา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3399"/>
                </a:solidFill>
                <a:latin typeface="Arial Black"/>
              </a:rPr>
              <a:t>๔</a:t>
            </a:r>
            <a:r>
              <a:rPr b="0" i="1" lang="th-TH" sz="4400" spc="-1" strike="noStrike">
                <a:solidFill>
                  <a:srgbClr val="ff3399"/>
                </a:solidFill>
                <a:latin typeface="Arial Black"/>
              </a:rPr>
              <a:t>.</a:t>
            </a:r>
            <a:r>
              <a:rPr b="0" i="1" lang="th-TH" sz="4400" spc="-1" strike="noStrike">
                <a:solidFill>
                  <a:srgbClr val="ff3399"/>
                </a:solidFill>
                <a:latin typeface="Arial Black"/>
              </a:rPr>
              <a:t>การทำให้ระบบตรวจสอบมีความเข้มแข็งและทำงานได้อย่างมีประสิทธิภาพ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ff00"/>
                </a:solidFill>
                <a:latin typeface="Arial"/>
              </a:rPr>
              <a:t>ปรับปรุงระบบการสรรหาองค์กรตรวจสอ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ff00"/>
                </a:solidFill>
                <a:latin typeface="Arial"/>
              </a:rPr>
              <a:t>ปรับปรุงอำนาจหน้าที่และระบบการทำงานขององค์กรตรวจสอบดียิ่งขึ้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ff00"/>
                </a:solidFill>
                <a:latin typeface="Arial"/>
              </a:rPr>
              <a:t>จัดให้มีระบบตรวจสอบการทำงานขององค์กรอิสระตามรัฐธรรมนูญ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600" spc="-1" strike="noStrike">
                <a:solidFill>
                  <a:srgbClr val="ff3399"/>
                </a:solidFill>
                <a:latin typeface="Arial Black"/>
              </a:rPr>
              <a:t>ปรับปรุงระบบการสรรหาองค์กรตรวจสอบ ให้ได้คนที่มีความเป็นอิสระและเหมาะสมกับองค์กรอย่างแท้จริง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ff99"/>
                </a:solidFill>
                <a:latin typeface="Arial"/>
              </a:rPr>
              <a:t>กรรมการสรรหามาจากองค์กรที่ได้รับความเชื่อถือและเป็นกลางในทางการเมือ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ff99"/>
                </a:solidFill>
                <a:latin typeface="Arial"/>
              </a:rPr>
              <a:t>ลดผู้มีส่วนได้เสีย ออกจากกรรมการสรรห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3399"/>
                </a:solidFill>
                <a:latin typeface="Arial Black"/>
              </a:rPr>
              <a:t>ปรับปรุงอำนาจหน้าที่และระบบการทำงานขององค์กรตรวจสอบให้ดียิ่งขึ้น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ศาลรัฐธรรมนูญมีอำนาจรับฟ้องเรื่องที่ประชาชนถูกละเมิดสิทธิและเสรีภาพได้โดยตร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ให้ศาลฎีกาแผนกคดีอาญาของผู้ดำรงตำแหน่งทางการเมืองเป็นผู้พิจารณาว่านักการเมืองจงไม่ยื่นบัญชีทรัพย์สินและหนี้สิน หรือยื่นด้วยข้อความอันเป็นเท็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ให้ผู้ตรวจการแผ่นดินสามารถหยิบยกเรื่องที่เกิดความเสียหายต่อประชาชนโดยรวมขึ้นพิจารณาได้ โดยไม่จำเป็นต้องมีการร้องเรีย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3399"/>
                </a:solidFill>
                <a:latin typeface="Arial Black"/>
              </a:rPr>
              <a:t>จัดให้มีระบบการตรวจสอบการทำงานขององค์กรอิสระตามรัฐธรรมนูญ</a:t>
            </a:r>
            <a:r>
              <a:rPr b="0" i="1" lang="en-US" sz="44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การให้ใบเหลือง ใบแดงของคณะกรรมการการเลือกตั้งสามารถอุทธรณ์ ต่อศาลฎีกาได้ ส่วนการเลือกตั้งระดับท้องถิ่น สามารถอุทธรณ์ต่อศาลอุทธรณ์และศาลอุทธรณ์ภาคใต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ผู้ตรวจการแผ่นดินมีอำนาจตรวจสอบการละเลยการปฏิบัติหน้าที่ หรือการปฏิบัติหน้าที่โดยไม่ชอบด้วยกฎหมายขององค์กรตามรัฐธรรมนูญหรือองค์กรในกระบวนการยุติธรรมและติดตามผลการปฏิบัติตามรัฐธรรมนู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ff99"/>
                </a:solidFill>
                <a:latin typeface="Arial Black"/>
              </a:rPr>
              <a:t>๑</a:t>
            </a:r>
            <a:r>
              <a:rPr b="0" i="1" lang="th-TH" sz="4400" spc="-1" strike="noStrike">
                <a:solidFill>
                  <a:srgbClr val="ffff99"/>
                </a:solidFill>
                <a:latin typeface="Arial Black"/>
              </a:rPr>
              <a:t>.</a:t>
            </a:r>
            <a:r>
              <a:rPr b="0" i="1" lang="th-TH" sz="4400" spc="-1" strike="noStrike">
                <a:solidFill>
                  <a:srgbClr val="ffff99"/>
                </a:solidFill>
                <a:latin typeface="Arial Black"/>
              </a:rPr>
              <a:t>การคุ้มครอง ส่งเสริม และการขยายสิทธิและเสรีภาพของประชาชนอย่างเต็มที่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เพิ่มประเภทสิทธิและเสรีภาพมากขึ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ทำให้การใช้สิทธิและเสรีภาพ    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ง่ายขึ้นกว่าเดิม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                            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มีประสิทธิภา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มีมาตรการคุ้มครองชัดเจน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ทำให้แนวนโยบายพื้นฐานแห่งรัฐมีความชัดเจน รอบด้าน และผูกพันรัฐมากกว่าเดิม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ประชาชนมีส่วนร่วมในการบริหารงานของท้องถิ่นและกระจายอำนาจให้แก่ อปท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เพิ่มขึ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ff00"/>
                </a:solidFill>
                <a:latin typeface="Arial Black"/>
              </a:rPr>
              <a:t>เพิ่มประเภทสิทธิและเสรีภาพให้มากขึ้นกว่าเดิม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71160"/>
            <a:ext cx="9144000" cy="53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คุ้มครองข้อมูลส่วนบุคคลไม่ให้ถูกละเมิ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ประชาชนเข้าถึงกระบวนการยุติธรรมได้ง่าย สะดวก รวดเร็ว และทั่วถึ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สื่อมวลชนได้รับการคุ้มครอง ห้ามปิดกิจการสื่อมวลชน ห้ามแทรกแซงสื่อมวลชนในการเสนอข่าวสาร ห้ามผู้ดำรงตำแหน่งทางการเมืองเป็นเจ้าของกิจการหรือเป็นผู้ถือหุ้นในกิจการสื่อสารมวลชนด้วย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ประชาชนได้รับการศึกษาฟรี ผู้ยากไร้ ผู้พิการ ทุพพลภาพ ต้องได้รับการศึกษา โดยทัดเทียมกับบุคคลอื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เด็ก เยาวชน และบุคคลในครอบครัวได้รับสิทธิในการพัฒนาด้านร่างกาย จิตใจ และสติปัญญ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บุคคลที่ไร้ที่อยู่อาศัย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ไม่มีรายได้เพียงพอ ได้รับช่วยเหลือจากรัฐเป็นครั้งแร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ff00"/>
                </a:solidFill>
                <a:latin typeface="Arial Black"/>
              </a:rPr>
              <a:t>เพิ่มประเภทสิทธิและเสรีภาพให้มากขึ้นกว่าเดิม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ffff"/>
                </a:solidFill>
                <a:latin typeface="Arial"/>
              </a:rPr>
              <a:t>คำนึงถึงสัดส่วนของชายหญิงที่ใกล้เคียงกั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ffff"/>
                </a:solidFill>
                <a:latin typeface="Arial"/>
              </a:rPr>
              <a:t>ขยายสิทธิชุมชน 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โครงการ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กิจกรรมที่อาจก่อผลกระทบอย่างรุนแรงต่อคุณภาพสิ่งแวดล้อมทรัพยากรธรรมชาติและสุขภาพ ต้องจัดให้มีการรับฟังความคิดเห็นของประชาชนและผู้มีส่วนได้เสียก่อ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ชุมชนมีสิทธิฟ้ององค์กรของรัฐ เพื่อให้ปฏิบัติหน้าที่ตามกฎหมา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ffff"/>
                </a:solidFill>
                <a:latin typeface="Arial"/>
              </a:rPr>
              <a:t>การทำสนธิสัญญา 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ข้อตกลงระหว่างประเทศที่มีผลกระทบต่อประชาชน ต้องจัดให้มีการรับฟังความคิดเห็นของประชาชน และแก้ไขเยียวยาผู้ได้รับผลกระทบอย่างรวดเร็ว เหมาะสม และเป็นธรร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ประชาชน </a:t>
            </a:r>
            <a:r>
              <a:rPr b="1" i="1" lang="th-TH" sz="3600" spc="-1" strike="noStrike">
                <a:solidFill>
                  <a:srgbClr val="ffffff"/>
                </a:solidFill>
                <a:latin typeface="Arial"/>
              </a:rPr>
              <a:t>๕๐</a:t>
            </a:r>
            <a:r>
              <a:rPr b="1" i="1" lang="th-TH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th-TH" sz="3600" spc="-1" strike="noStrike">
                <a:solidFill>
                  <a:srgbClr val="ffffff"/>
                </a:solidFill>
                <a:latin typeface="Arial"/>
              </a:rPr>
              <a:t>๐๐๐ คน 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เข้าชื่อเสนอขอ</a:t>
            </a:r>
            <a:r>
              <a:rPr b="1" i="1" lang="th-TH" sz="3600" spc="-1" strike="noStrike">
                <a:solidFill>
                  <a:srgbClr val="ffffff"/>
                </a:solidFill>
                <a:latin typeface="Arial"/>
              </a:rPr>
              <a:t>แก้ไขรัฐธรรมนูญได้</a:t>
            </a:r>
            <a:r>
              <a:rPr b="1" i="1" lang="th-TH" sz="4000" spc="-1" strike="noStrike">
                <a:solidFill>
                  <a:srgbClr val="ffffff"/>
                </a:solidFill>
                <a:latin typeface="Arial"/>
              </a:rPr>
              <a:t>เป็นครั้งแร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ff00"/>
                </a:solidFill>
                <a:latin typeface="Arial Black"/>
              </a:rPr>
              <a:t>การใช้สิทธิและเสรีภาพมีประสิทธิภาพและมีมาตรการคุ้มครองอย่างชัดเจน</a:t>
            </a:r>
            <a:r>
              <a:rPr b="0" i="1" lang="en-US" sz="44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ตัดคำว่า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ทั้งนี้ ตามที่กฎหมายบัญญัติ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 ออก เพื่อให้มีผลบังคับทันทีตามรัฐธรรมนู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กำหนดเวลาในการตรากฎหมายลูกอย่างชัดเจน 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ส่วนใหญ่ ๑ ปี</a:t>
            </a: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ประชาชนมีสิทธิฟ้องศาลรัฐธรรมนูญได้โดยตรง ในกรณีที่มีการละเมิดสิทธิและเสรีภาพตามรัฐธรรมนู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ff"/>
                </a:solidFill>
                <a:latin typeface="Arial"/>
              </a:rPr>
              <a:t>คณะกรรมการสิทธิมนุษยชนแห่งชาติมีอำนาจฟ้องศาลรัฐธรรมนูญและศาลปกครองได้ ในกรณีที่มีการละเมิดสิทธิมนุษยช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ff00"/>
                </a:solidFill>
                <a:latin typeface="Arial Black"/>
              </a:rPr>
              <a:t>ทำให้การใช้สิทธิและเสรีภาพง่ายขึ้นกว่าเดิม</a:t>
            </a:r>
            <a:r>
              <a:rPr b="0" i="1" lang="en-US" sz="44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สิทธิ เสรีภาพที่รัฐธรรมนูญรับรองและคุ้มครองไว้ แม้ยังไม่มีกฎหมายลูก ประชาชนสามารถใช้สิทธิและเสรีภาพเหล่านั้นได้ทันท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ประชาชน ๑๐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๐๐๐ คนเข้าชื่อเสนอร่างกฎหมาย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ประชาชน ๒๐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๐๐๐ คนเข้าชื่อถอดถอนนักการเมืองได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4400" spc="-1" strike="noStrike">
                <a:solidFill>
                  <a:srgbClr val="ffff00"/>
                </a:solidFill>
                <a:latin typeface="Arial Black"/>
              </a:rPr>
              <a:t>ทำให้แนวนโยบายพื้นฐานแห่งรัฐมีความชัดเจน รอบด้าน และผูกพันรัฐมากกว่าเดิม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แยกแยะหมวดแนวนโยบายพื้นฐานแห่งรัฐให้ครอบคลุมทุกด้า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กำหนดแนวนโยบายพื้นฐานแห่งรัฐในเรื่องที่สำคัญเพิ่มขึ้น เช่น รัฐต้องส่งเสริมและสนับสนุนให้มีการดำเนินการตามแนวปรัชญาเศรษฐกิจพอเพียง ปรับปรุงระบบการจัดเก็บภาษีอากรให้มีความเป็นธรรม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Arial"/>
              </a:rPr>
              <a:t>ให้รัฐมีหน้าที่จัดให้มีสาธารณูปโภคขั้นพื้นฐาน มีการคุ้มครองสาธารณูปโภคขั้นพื้นฐานให้เป็นของรัฐและป้องกันไม่ให้มีการผูกขาดในกิจการสาธารณูปโภคขั้นพื้นฐา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600" spc="-1" strike="noStrike">
                <a:solidFill>
                  <a:srgbClr val="ffff00"/>
                </a:solidFill>
                <a:latin typeface="Arial Black"/>
              </a:rPr>
              <a:t>ประชาชนมีส่วนร่วมในการบริหารงานของท้องถิ่นและกระจายอำนาจให้แก่ อปท</a:t>
            </a:r>
            <a:r>
              <a:rPr b="0" i="1" lang="th-TH" sz="3600" spc="-1" strike="noStrike">
                <a:solidFill>
                  <a:srgbClr val="ffff00"/>
                </a:solidFill>
                <a:latin typeface="Arial Black"/>
              </a:rPr>
              <a:t>.</a:t>
            </a:r>
            <a:r>
              <a:rPr b="0" i="1" lang="th-TH" sz="3600" spc="-1" strike="noStrike">
                <a:solidFill>
                  <a:srgbClr val="ffff00"/>
                </a:solidFill>
                <a:latin typeface="Arial Black"/>
              </a:rPr>
              <a:t>เพิ่มขึ้น เพื่อเป็นฐานของการปกครองระบอบประชาธิปไตยระดับประเทศ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22381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อปท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มีอิสระในการบริหารงานทุกด้านและมีการจัดโครงสร้างที่คล่องตั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เพิ่มการมีส่วนร่วมของประชาชนในระดับท้องถิ่น ลดจำนวนประชาชนที่จะเข้าชื่อถอดถอนนักการเมืองท้องถิ่นและการเสนอร่างข้อบัญญัติท้องถิ่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อปท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i="1" lang="th-TH" sz="3200" spc="-1" strike="noStrike">
                <a:solidFill>
                  <a:srgbClr val="ffff00"/>
                </a:solidFill>
                <a:latin typeface="Arial"/>
              </a:rPr>
              <a:t>ต้องรายงานการดำเนินงานต่อประชาชน ในการจัดทำงบประมาณ การใช้จ่าย และผลการดำเนินงานในรอบป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07:52:26Z</dcterms:created>
  <dc:creator>for Home Used Only</dc:creator>
  <dc:description/>
  <dc:language>en-US</dc:language>
  <cp:lastModifiedBy>Windows Desktop</cp:lastModifiedBy>
  <dcterms:modified xsi:type="dcterms:W3CDTF">2007-07-08T15:01:10Z</dcterms:modified>
  <cp:revision>14</cp:revision>
  <dc:subject/>
  <dc:title>สาระสำคัญของ ร่างรัฐธรรมนูญแห่งราชอาณาจักรไทย  พุทธศักราช .... </dc:title>
</cp:coreProperties>
</file>