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E23-650F-40D6-A652-576889CF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E43-2AB0-4E87-A9BE-27ECB4F9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78C-F60E-4FE1-8AB4-EF3BBD00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2E7-F6F6-4AE0-B3B1-27477616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C35-A056-4A16-B57F-4D7CC1AD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ED7C-0F9C-4394-97E3-F1D7438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34C5-1E09-4F7A-88CC-36AFEDBA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B3E5-5CB2-4BF3-8023-44DC997F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46E6-D918-4D82-9B9C-8643D96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4F54-E51A-43F7-B49F-45F40C26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236F-65C5-4183-8307-25946E7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86D-8A16-492A-BD38-821E09F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D83-7975-4F52-901B-37FCDDC6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36D1-8E1B-4C0F-BCE1-42FF222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005E-52FD-413D-BD70-198DD1F3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FE1-97EE-4201-9667-B06692A5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51B3-8F29-4302-9F14-E02722F3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017-A417-487B-9988-88E0B8CE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D9B-0396-4C66-A061-41A684C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295-0E12-46EB-8DE1-041337F4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233-7DFC-47E0-8CCB-F0E53C8E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154-020F-4006-B844-A6350BE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21C-4A57-45E8-886A-C707958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B02-311B-4409-8502-2F400A0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0F51-5EEC-4D44-87C9-90FB6AC59408}" type="slidenum"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B627-6F3B-45D6-827D-05A460BE71C8}" type="slidenum"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929800" cy="24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สาระสำคัญของ</a:t>
            </a:r>
            <a:br>
              <a:rPr sz="6600"/>
            </a:b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ร่างรัฐธรรมนูญแห่งราชอาณาจักรไทย </a:t>
            </a:r>
            <a:br>
              <a:rPr sz="6600"/>
            </a:b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พุทธศักราช </a:t>
            </a: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....</a:t>
            </a:r>
            <a:br>
              <a:rPr sz="6600"/>
            </a:br>
            <a:endParaRPr b="1" lang="en-US" sz="6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0040" y="4319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7c80"/>
                </a:solidFill>
                <a:latin typeface="Arial"/>
              </a:rPr>
              <a:t>ฉบับลงประชามต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๒</a:t>
            </a: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การลดการผูกขาดอำนาจรัฐและขจัดการใช้อำนาจอย่างไม่เป็นธรร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0955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เสริมอำนาจทางการเมืองให้แก่ประชาชน</a:t>
            </a:r>
            <a:r>
              <a:rPr b="1" i="1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จำกัดการผูกขาดและการใช้อำนาจที่ไม่เป็นธรรมของรัฐบา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ให้ สส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.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และ สว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เป็นอิสระจากการครอบงำของพรรคการเมือง เพื่อทำหน้าที่ผู้แทนปวงชนได้เต็มที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เสริมสร้างอำนาจทางการเมืองให้แก่ประชาชน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และชุมชนมีอำนาจในการฟ้องร้องรัฐที่ใช้อำนาจไม่เป็นธรรม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ใช้สิทธิทางการเมืองได้ง่ายขึ้น เช่น การลดจำนวนประชาชนในการเข้าชื่อถอดถอนนักการเมืองและการเสนอกฎหมายทั้งในระดับประเทศและในระดับท้องถิ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สร้างการมีส่วนร่วมของประชาชนในระดับชาติและระดับท้องถิ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จำกัดการผูกขาดและการใช้อำนาจที่ไม่เป็นธรรมของรัฐบาล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3840" y="1571400"/>
            <a:ext cx="8472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นายกรัฐมนตรีอยู่ได้ไม่เกิน ๘ ป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การตราพระราชกำหนดของรัฐบาลจะต้องถูกตรวจสอบ โดยเคร่งครัดจากศาลรัฐธรรมนูญ มิใช่ตามอำเภอใจของรัฐบาลอีกต่อไ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กำหนดขอบเขตภาระหน้าที่ของรัฐบาลรักษาการอย่างชัดเจน เพื่อมิให้รัฐบาลรักษาการแทรกแซงการทำงานของฝ่ายประจำ และใช้กลไกของรัฐไปสนับสนุนพรรคการเมืองและผู้สมัครฝ่ายตนในการเลือกตั้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คณะรัฐมนตรีจะทำสนธิสัญญาหรือข้อตกลงระหว่างประเทศต้องได้รับความเห็นชอบจากรัฐสภาทั้งก่อน ระหว่าง และหลังการลงน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จำกัดการผูกขาดและการใช้อำนาจที่ไม่เป็นธรรมของรัฐบาล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๑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๕ เปิดอภิปรายนายกรัฐมนตรีได้  และ 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๑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๖ เปิดอภิปรายรัฐมนตรีได้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อภิปรายไม่ไว้วางใจรัฐมนตรีที่หลบการอภิปราย ไปดำรงตำแหน่งรัฐมนตรีอ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ให้องค์กรอัยการเป็นอิสระ เพื่อตรวจสอบการใช้อำนาจรัฐและดำเนินคดีอาญาของผู้ดำรงตำแหน่งทางการเมืองได้เต็ม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7c80"/>
                </a:solidFill>
                <a:latin typeface="Arial Black"/>
              </a:rPr>
              <a:t>สส</a:t>
            </a:r>
            <a:r>
              <a:rPr b="0" i="1" lang="th-TH" sz="3600" spc="-1" strike="noStrike">
                <a:solidFill>
                  <a:srgbClr val="ff7c80"/>
                </a:solidFill>
                <a:latin typeface="Arial Black"/>
              </a:rPr>
              <a:t>.</a:t>
            </a:r>
            <a:r>
              <a:rPr b="0" i="1" lang="th-TH" sz="3600" spc="-1" strike="noStrike">
                <a:solidFill>
                  <a:srgbClr val="ff7c80"/>
                </a:solidFill>
                <a:latin typeface="Arial Black"/>
              </a:rPr>
              <a:t>เป็นอิสระจากการครอบงำของพรรคการเมือง เพื่อทำหน้าที่ฐานะผู้แทนปวงชนได้อย่างเต็มที่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ห้ามควบรวมพรรคการเมืองในระหว่างที่อายุของสภายังไม่สิ้นสุ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มีอิสระจากมติพรรคการเมืองในการตั้งกระทู้ถาม การอภิปราย และการลงมติอภิปรายไม่ไว้วางใ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ห้าม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และสว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แทรกแซงข้าราชการประจ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๓</a:t>
            </a: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การทำให้การเมืองมีความโปร่งใส มีคุณธรรมและจริยธรร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บัญญัติหมวดคุณธรรมและจริยธรรมของผู้ดำรงตำแหน่งทางการเมืองและเจ้าหน้าที่ของรัฐไว้ชัดเ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กำหนดมาตรการเพื่อไม่ให้มีผลประโยชน์ทับซ้อนทางการเมือง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การแสดงทรัพย์สินและหนี้สินของผู้ดำรงตำแหน่งทางการเมืองมีความเข้มข้นขึ้น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ให้สส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สว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นายกรัฐมนตรีและรัฐมนตรี พ้นจากตำแหน่ง ในกรณีที่ศาลมีคำพิพากษาได้ง่ายขึ้น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000" spc="-1" strike="noStrike">
                <a:solidFill>
                  <a:srgbClr val="66ff33"/>
                </a:solidFill>
                <a:latin typeface="Arial Black"/>
              </a:rPr>
              <a:t>บัญญัติหมวดคุณธรรมและจริยธรรมของผู้ดำรงตำแหน่งทางการเมืองและเจ้าหน้าที่ของรัฐไว้อย่างชัดเจน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มีกลไกและระบบการดำเนินงานที่มีประสิทธิภาพ มีขั้นตอนการลงโทษตามความร้ายแรงแห่งการละเม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ารฝ่าฝืนมาตรฐานจริยธรรมที่ร้ายแรงของผู้ดำรงตำแหน่งทางการเมืองนำไปสู่การถอดถอนออกจากตำแหน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ให้ ผู้ตรวจการแผ่นดิน และ ปปช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ทำหน้าที่ตรวจสอบจริยธรรมนักการเมื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กำหนดมาตรการเพื่อไม่ให้มีผลประโยชน์ทับซ้อน</a:t>
            </a:r>
            <a:br>
              <a:rPr sz="4400"/>
            </a:b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ทางการเมือง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4200" y="1904760"/>
            <a:ext cx="8631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นายกรัฐมนตรีและรัฐมนตรี ต้องไม่เป็นหุ้นส่วนหรือผู้ถือหุ้นในการห้างหุ้นส่วนหรือบริษัท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(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ครอบคลุมถึงคู่สมรสและบุตรที่ยังไม่บรรลุนิติภาวะ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ำหนดหลักการ การกระทำที่เป็นการขัดกันแห่งผลประโยชน์ของ สส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สว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นายกรัฐมนตรี 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ห้ามประธานสภา รองประธานสภา ดำเนินการในลักษณะที่มีผลประโยชน์ทับซ้อน ในระหว่างการดำรงตำแหน่งจะเป็นกรรมการบริหารหรือดำรงตำแหน่งใดในพรรคการเมืองมิ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นายกรัฐมนตรีและรัฐมนตรี ห้ามมิให้ออกเสียงลงคะแนนในเรื่องที่เกี่ยวกับการดำรงตำแหน่ง การปฏิบัติหน้าที่ หรือการมีส่วนได้เสียในเรื่อง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การแสดงทรัพย์สินและหนี้สินของผู้ดำรงตำแหน่งทางการเมืองมีความเข้มข้นขึ้น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ขยายไปถึงทรัพย์สินที่อยู่ในความครอบครองหรือดูแลของบุคคลอี่น ไม่ว่าทางตรงหรือทางอ้อ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สส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และ สว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ต้องแสดงทรัพย์สินและหนี้สินอย่างเปิดเผยแก่สาธารณชนเ ช่นเดียวกับของ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66ff33"/>
                </a:solidFill>
                <a:latin typeface="Arial Black"/>
              </a:rPr>
              <a:t>ให้สมาชิกสภาผู้แทนราษฎร สมาชิกวุฒิสภา นายกรัฐมนตรีและรัฐมนตรี พ้นจากตำแหน่งในกรณีที่ศาลมีคำพิพากษาได้ง่ายขึ้น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รณีสมาชิกสภาพผู้แทนราษฎรและสมาชิกวุฒิสภา เมื่อมีคำพิพากษาถึงที่สุดให้จำคุกแม้จะมีการรอการลงโทษก็พ้นจากตำแหน่ง เว้นแต่ประมาท ลหุโทษ หรือความผิดฐานหมิ่นประม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รณีนายกรัฐมนตรีและรัฐมนตรี เมื่อต้องคำพิพากษาให้จำคุก แม้คดีจะยังไม่ถึงที่สุดหรือมีการรอการลงโทษก็พ้นจากตำแหน่ง เว้นแต่ประมาท ลหุโทษ หรือความผิดฐานหมิ่นประมาท</a:t>
            </a: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8f8f8"/>
                </a:solidFill>
                <a:latin typeface="Arial Black"/>
              </a:rPr>
              <a:t>สาระสำคัญที่เพิ่มขึ้นของรัฐธรรมนูญ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15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๑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คุ้มครอง ส่งเสริม และการขยายสิทธิและเสรีภาพของประชาชนอย่างเต็มที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๒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ลดการผูกขาดอำนาจรัฐและขจัดการใช้อำนาจอย่างไม่เป็นธรร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๓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ทำให้การเมืองมีความโปร่งใส มีคุณธรรมและจริยธรร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๔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ทำให้ระบบตรวจสอบมีความเข้มแข็งและทำงานได้อย่างมีประสิทธิภา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๔</a:t>
            </a: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การทำให้ระบบตรวจสอบมีความเข้มแข็งและทำงานได้อย่างมีประสิทธิภาพ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00"/>
                </a:solidFill>
                <a:latin typeface="Arial"/>
              </a:rPr>
              <a:t>ปรับปรุงระบบการสรรหาองค์กรตรวจสอ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00"/>
                </a:solidFill>
                <a:latin typeface="Arial"/>
              </a:rPr>
              <a:t>ปรับปรุงอำนาจหน้าที่และระบบการทำงานขององค์กรตรวจสอบดียิ่งขึ้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00"/>
                </a:solidFill>
                <a:latin typeface="Arial"/>
              </a:rPr>
              <a:t>จัดให้มีระบบตรวจสอบการทำงานขององค์กรอิสระตามรัฐธรรมนูญ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3399"/>
                </a:solidFill>
                <a:latin typeface="Arial Black"/>
              </a:rPr>
              <a:t>ปรับปรุงระบบการสรรหาองค์กรตรวจสอบ ให้ได้คนที่มีความเป็นอิสระและเหมาะสมกับองค์กรอย่างแท้จริง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99"/>
                </a:solidFill>
                <a:latin typeface="Arial"/>
              </a:rPr>
              <a:t>กรรมการสรรหามาจากองค์กรที่ได้รับความเชื่อถือและเป็นกลางในทางการเมื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99"/>
                </a:solidFill>
                <a:latin typeface="Arial"/>
              </a:rPr>
              <a:t>ลดผู้มีส่วนได้เสีย ออกจากกรรมการสรรห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ปรับปรุงอำนาจหน้าที่และระบบการทำงานขององค์กรตรวจสอบให้ดียิ่งขึ้น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ศาลรัฐธรรมนูญมีอำนาจรับฟ้องเรื่องที่ประชาชนถูกละเมิดสิทธิและเสรีภาพได้โดยตร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ให้ศาลฎีกาแผนกคดีอาญาของผู้ดำรงตำแหน่งทางการเมืองเป็นผู้พิจารณาว่านักการเมืองจงไม่ยื่นบัญชีทรัพย์สินและหนี้สิน หรือยื่นด้วยข้อความอันเป็นเท็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ให้ผู้ตรวจการแผ่นดินสามารถหยิบยกเรื่องที่เกิดความเสียหายต่อประชาชนโดยรวมขึ้นพิจารณาได้ โดยไม่จำเป็นต้องมีการร้องเรีย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จัดให้มีระบบการตรวจสอบการทำงานขององค์กรอิสระตามรัฐธรรมนูญ</a:t>
            </a:r>
            <a:r>
              <a:rPr b="0" i="1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การให้ใบเหลือง ใบแดงของคณะกรรมการการเลือกตั้งสามารถอุทธรณ์ ต่อศาลฎีกาได้ ส่วนการเลือกตั้งระดับท้องถิ่น สามารถอุทธรณ์ต่อศาลอุทธรณ์และศาลอุทธรณ์ภาคใต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ผู้ตรวจการแผ่นดินมีอำนาจตรวจสอบการละเลยการปฏิบัติหน้าที่ หรือการปฏิบัติหน้าที่โดยไม่ชอบด้วยกฎหมายขององค์กรตามรัฐธรรมนูญหรือองค์กรในกระบวนการยุติธรรมและติดตามผลการปฏิบัติตามรัฐธรรมนู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99"/>
                </a:solidFill>
                <a:latin typeface="Arial Black"/>
              </a:rPr>
              <a:t>๑</a:t>
            </a:r>
            <a:r>
              <a:rPr b="0" i="1" lang="th-TH" sz="4400" spc="-1" strike="noStrike">
                <a:solidFill>
                  <a:srgbClr val="ffff99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ffff99"/>
                </a:solidFill>
                <a:latin typeface="Arial Black"/>
              </a:rPr>
              <a:t>การคุ้มครอง ส่งเสริม และการขยายสิทธิและเสรีภาพของประชาชนอย่างเต็มที่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เพิ่มประเภทสิทธิและเสรีภาพมาก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ทำให้การใช้สิทธิและเสรีภาพ   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ง่ายขึ้นกว่าเดิม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มีประสิทธิภา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มีมาตรการคุ้มครองชัดเจน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ทำให้แนวนโยบายพื้นฐานแห่งรัฐมีความชัดเจน รอบด้าน และผูกพันรัฐมากกว่าเดิ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ประชาชนมีส่วนร่วมในการบริหารงานของท้องถิ่นและกระจายอำนาจให้แก่ อปท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เพิ่ม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เพิ่มประเภทสิทธิและเสรีภาพให้มากขึ้นกว่าเดิ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คุ้มครองข้อมูลส่วนบุคคลไม่ให้ถูกละเม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เข้าถึงกระบวนการยุติธรรมได้ง่าย สะดวก รวดเร็ว และทั่วถึ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สื่อมวลชนได้รับการคุ้มครอง ห้ามปิดกิจการสื่อมวลชน ห้ามแทรกแซงสื่อมวลชนในการเสนอข่าวสาร ห้ามผู้ดำรงตำแหน่งทางการเมืองเป็นเจ้าของกิจการหรือเป็นผู้ถือหุ้นในกิจการสื่อสารมวลชนด้ว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ได้รับการศึกษาฟรี ผู้ยากไร้ ผู้พิการ ทุพพลภาพ ต้องได้รับการศึกษา โดยทัดเทียมกับบุคคลอ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เด็ก เยาวชน และบุคคลในครอบครัวได้รับสิทธิในการพัฒนาด้านร่างกาย จิตใจ และสติปัญญ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บุคคลที่ไร้ที่อยู่อาศัย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ไม่มีรายได้เพียงพอ ได้รับช่วยเหลือจากรัฐเป็นครั้งแร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เพิ่มประเภทสิทธิและเสรีภาพให้มากขึ้นกว่าเดิ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คำนึงถึงสัดส่วนของชายหญิงที่ใกล้เคียงกั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ขยายสิทธิชุมชน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โครงการ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กิจกรรมที่อาจก่อผลกระทบอย่างรุนแรงต่อคุณภาพสิ่งแวดล้อมทรัพยากรธรรมชาติและสุขภาพ ต้องจัดให้มีการรับฟังความคิดเห็นของประชาชนและผู้มีส่วนได้เสียก่อ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ชุมชนมีสิทธิฟ้ององค์กรของรัฐ เพื่อให้ปฏิบัติหน้าที่ตามกฎหมา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การทำสนธิสัญญา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ข้อตกลงระหว่างประเทศที่มีผลกระทบต่อประชาชน ต้องจัดให้มีการรับฟังความคิดเห็นของประชาชน และแก้ไขเยียวยาผู้ได้รับผลกระทบอย่างรวดเร็ว เหมาะสม และเป็นธรร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 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๕๐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๐๐๐ คน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เข้าชื่อเสนอขอ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แก้ไขรัฐธรรมนูญได้</a:t>
            </a:r>
            <a:r>
              <a:rPr b="1" i="1" lang="th-TH" sz="4000" spc="-1" strike="noStrike">
                <a:solidFill>
                  <a:srgbClr val="ffffff"/>
                </a:solidFill>
                <a:latin typeface="Arial"/>
              </a:rPr>
              <a:t>เป็นครั้งแร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การใช้สิทธิและเสรีภาพมีประสิทธิภาพและมีมาตรการคุ้มครองอย่างชัดเจน</a:t>
            </a: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ตัดคำว่า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ทั้งนี้ ตามที่กฎหมายบัญญัติ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 ออก เพื่อให้มีผลบังคับทันทีตามรัฐธรรมนู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กำหนดเวลาในการตรากฎหมายลูกอย่างชัดเจน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ส่วนใหญ่ ๑ ปี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มีสิทธิฟ้องศาลรัฐธรรมนูญได้โดยตรง ในกรณีที่มีการละเมิดสิทธิและเสรีภาพตามรัฐธรรมนู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คณะกรรมการสิทธิมนุษยชนแห่งชาติมีอำนาจฟ้องศาลรัฐธรรมนูญและศาลปกครองได้ ในกรณีที่มีการละเมิดสิทธิมนุษยช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ทำให้การใช้สิทธิและเสรีภาพง่ายขึ้นกว่าเดิม</a:t>
            </a: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สิทธิ เสรีภาพที่รัฐธรรมนูญรับรองและคุ้มครองไว้ แม้ยังไม่มีกฎหมายลูก ประชาชนสามารถใช้สิทธิและเสรีภาพเหล่านั้นได้ทันท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ประชาชน ๑๐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๐๐๐ คนเข้าชื่อเสนอร่างกฎหมา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ประชาชน ๒๐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๐๐๐ คนเข้าชื่อถอดถอนนักการเมือง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ทำให้แนวนโยบายพื้นฐานแห่งรัฐมีความชัดเจน รอบด้าน และผูกพันรัฐมากกว่าเดิ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แยกแยะหมวดแนวนโยบายพื้นฐานแห่งรัฐให้ครอบคลุมทุกด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กำหนดแนวนโยบายพื้นฐานแห่งรัฐในเรื่องที่สำคัญเพิ่มขึ้น เช่น รัฐต้องส่งเสริมและสนับสนุนให้มีการดำเนินการตามแนวปรัชญาเศรษฐกิจพอเพียง ปรับปรุงระบบการจัดเก็บภาษีอากรให้มีความเป็นธรร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ให้รัฐมีหน้าที่จัดให้มีสาธารณูปโภคขั้นพื้นฐาน มีการคุ้มครองสาธารณูปโภคขั้นพื้นฐานให้เป็นของรัฐและป้องกันไม่ให้มีการผูกขาดในกิจการสาธารณูปโภคขั้นพื้นฐา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ff00"/>
                </a:solidFill>
                <a:latin typeface="Arial Black"/>
              </a:rPr>
              <a:t>ประชาชนมีส่วนร่วมในการบริหารงานของท้องถิ่นและกระจายอำนาจให้แก่ อปท</a:t>
            </a:r>
            <a:r>
              <a:rPr b="0" i="1" lang="th-TH" sz="3600" spc="-1" strike="noStrike">
                <a:solidFill>
                  <a:srgbClr val="ffff00"/>
                </a:solidFill>
                <a:latin typeface="Arial Black"/>
              </a:rPr>
              <a:t>.</a:t>
            </a:r>
            <a:r>
              <a:rPr b="0" i="1" lang="th-TH" sz="3600" spc="-1" strike="noStrike">
                <a:solidFill>
                  <a:srgbClr val="ffff00"/>
                </a:solidFill>
                <a:latin typeface="Arial Black"/>
              </a:rPr>
              <a:t>เพิ่มขึ้น เพื่อเป็นฐานของการปกครองระบอบประชาธิปไตยระดับประเทศ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2381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อปท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มีอิสระในการบริหารงานทุกด้านและมีการจัดโครงสร้างที่คล่องตั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เพิ่มการมีส่วนร่วมของประชาชนในระดับท้องถิ่น ลดจำนวนประชาชนที่จะเข้าชื่อถอดถอนนักการเมืองท้องถิ่นและการเสนอร่างข้อบัญญัติท้องถิ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อปท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ต้องรายงานการดำเนินงานต่อประชาชน ในการจัดทำงบประมาณ การใช้จ่าย และผลการดำเนินงานในรอบป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7:52:26Z</dcterms:created>
  <dc:creator>for Home Used Only</dc:creator>
  <dc:description/>
  <dc:language>en-US</dc:language>
  <cp:lastModifiedBy>Windows Desktop</cp:lastModifiedBy>
  <dcterms:modified xsi:type="dcterms:W3CDTF">2007-07-08T15:01:10Z</dcterms:modified>
  <cp:revision>14</cp:revision>
  <dc:subject/>
  <dc:title>สาระสำคัญของ ร่างรัฐธรรมนูญแห่งราชอาณาจักรไทย  พุทธศักราช .... </dc:title>
</cp:coreProperties>
</file>